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E13-2AA0-44AC-8D18-5FF3EB8B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936-0C02-4D9C-A3AB-86D6C65C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9FD68-827C-4E69-88C2-0BF21BA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1947A-F9AD-4FE5-AF48-C9D59D2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27AE-754E-4EAC-A8DD-EC90C6EF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04F73-7B13-4B6A-89F6-CB4DCCA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A0BC-E9B7-4053-8688-16B0B9A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78EA6-5797-4822-A6CF-B296FA9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A7006-4F8F-4A77-A5BF-5D7DC9BB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0A9B0-0826-4FEF-80B9-B4F67866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72BFE-BBFF-4F6F-8236-2608B21A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76BC0-0BAA-47BC-9E68-6C04BD38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D12-AA1B-453B-9A9A-6E2C800F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00A70-C327-4F30-B78D-1EFE220C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E298-557E-4AFF-BEE9-E410C20F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894C6-638A-4950-9A8A-B16AB60F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F31AF-892A-4E8D-9B5E-3E88BD6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D2B56-3D02-4609-8CE9-3B9C559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7B963-DE89-41D5-ABD8-678D762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DCAC-1B5E-47B8-A2BC-457918B9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D114-E1A8-4CAA-A81A-DE892079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4478E-35AA-468C-A1C1-74108B18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1E9AC-FEAE-4DEA-BCC4-6A88EFF7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3D0-3222-4ED9-81EA-2F1DA93B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7DC30-7B8D-4222-BC24-6DF2DDBD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41965-498C-4484-9155-BF3B7B8B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CA652-7236-4454-8D03-F9A230C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64396-ECC3-4D71-B17D-9F0BBFC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CCCEF-EA3F-46C1-871A-6EC687E6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3D00F-C620-4264-A087-B9AC5942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6AE64-03E0-4674-8058-4ACA792D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76C09-DF07-4E58-AEF9-9D0C39E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FC36-D4F2-4265-A4ED-F17C79F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8A041-3539-4FDD-893A-798AA78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4CC8-68D1-4051-93A0-A836B001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86633-D5BB-4680-8B18-151EF154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3227-F681-4CE2-AE92-FD5C1AD7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320A-9F66-4723-A441-7CE74950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8605F-5E1B-4744-B37E-8EC8B1B1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824F7-EAA1-49E8-8D26-44A25EA5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AAB28-10F5-446E-A667-1603DE4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268B3-0644-4DB7-BA26-45EC5B1D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18B08-1155-4CC1-8461-2CE148FD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2566E-9C55-4CF5-8CDD-EF0ADA17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9BCFC-06FF-4C0E-AF22-AFA5F894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8911-AD16-4DDA-9B3F-A963EF4B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1A37-BBC2-4ADF-840F-4CB7D47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E3905-37D2-43EE-8618-8211B96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4F545-BF3E-4A00-9D2F-77B147E7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57108-4B77-4811-8FFF-F2C86FDE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49C91-2C55-4D76-AFFD-DF1BBD1C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877-B96E-4543-A570-8DFEBB0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0427-E004-4FCF-B809-2AC15D21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46F1-0491-43C4-8678-ACAA612C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F3E0-D193-4CDB-B51E-661F7398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78A4-C685-48A8-A4F0-B9DDEC5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1F1-EE35-4F22-9EC0-1F189C4F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103-B8AA-47A0-8024-9A1D582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D2DB-D5D7-4426-AE0B-EDAFEB13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5464-5520-4BB3-B6C1-A9DBB89D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DF22-F0E6-4DA0-922A-F0299F8C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B903-9528-4A78-92F5-20A466A6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A00D-C05F-4A7F-B608-94459E80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4B0A-0D4B-44C6-A7E4-495E3A71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F445-F3D0-4180-A4D1-6AA98E1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1D6A-2A32-4879-9457-7489F11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8E1C-44A6-4E3D-9585-13EAD003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701-70C8-4351-9190-9AEA264A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8708-2A52-4475-BC9E-2D2C76B5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ADDB-749C-4589-8C10-A97DBB3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EF72-F21D-4D93-9AE3-C1DC8EC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C148-E67A-4AC0-9BA5-F014FEE9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C755-5D20-49A2-BE1E-023AFFDC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4E7C-F3C8-4647-8D82-ABD54596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D326-0CC9-43B3-AABD-A2F4FBAE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A2B4-2C52-45F4-87EA-7B7C8953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D26D5-88B4-42E8-B2A8-E779D38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454F-DB8B-4A58-9D68-DE26EC0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BDC-184A-4DDD-9C6B-4ECD674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7FD9-2CA7-450D-B302-86065CA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BF8E-352F-4E67-90E7-F3B3793F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73F17-28AB-4E1D-8A18-B1D8581A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1BAB-732D-4393-A3D5-893AC28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9721-F2F3-455D-AB47-05EEA77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E822-11D4-4B48-9F6F-5301F54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1F00-8997-4E38-AC20-7D57EC6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C5B4-6F61-4683-85D7-6FBE0A70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293F-A64E-4994-A537-42F17AB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02B7-24FF-4993-8AEC-4F150E0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36F-B4B9-4A94-AE98-B260EDC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7742A-FB7D-4D35-809D-396A186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13C7-4BC3-4DF2-9FF9-95A4520E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45AB-FD00-45CC-A73B-33D7E5D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C20C-9F3A-4F40-8A02-51A0DAA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6B38B-3C51-4EAA-8D8E-84E2B5F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D6F5-4529-45DC-AF7E-0D90CB2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91D6-E50C-40C6-BBFA-E3AA3FA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CEF0-4AA8-488E-82E3-21765EE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B23E-5913-4FDB-BD81-0721FD51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6FA64-CB68-4149-AAAD-2641346E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81E-7D59-420A-9964-86A995D7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F2142-C3F4-4CC2-B315-AD5FC140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67BA4-ED77-414C-BBEB-D9704B3C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1D8CF-AE4B-4CEE-8C26-DDB9F44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9934-91CB-4199-9977-6BA64A3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A88D-0D7C-4A79-B146-24F41B7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304F-2E09-4A4A-BA22-992A50C0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2445-D453-4418-BADA-9253AD6C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5BF06-9A9C-4DA7-97FD-AEF11E6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EF796-C1CB-4784-9E9A-055654D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0DDAB-72A1-4D63-95F9-6AF5D65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3A4-16DA-405E-A0B0-CED720F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FC6C-A3A1-4DEE-9095-168AF6A3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A7E66-29B9-4158-A962-94890912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7C11A-F989-47E9-8755-ECCE2ED5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372B-20F3-4D8E-97A7-ADF79889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0816-0841-4B64-9819-0454749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610D-7EC0-4794-9D9D-47A59236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1B5A-413A-478A-8714-0D0834F2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6178-5151-494C-B5F4-EA355B1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E212B-260A-481A-B424-42BDA69A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5EACF-A767-45D3-AB34-11763BA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12A-D412-475E-B552-A59A7D5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E737-A712-420E-B638-B6835D1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3889-52B4-451F-AAB5-878CCB6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2404D-B152-4AEF-B19A-2A94DF6C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2BC2-B4A6-41E1-8164-719B54FD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1DC57-710B-4045-8656-01E4FF27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A04D5-3D0D-46E5-B481-2D1CE8F8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1C3A5-21AC-4E91-997E-BC7130DD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CBB38-64C1-49A9-BE3B-FB5577B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3C250-55AB-4391-87FD-4E76F3A3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AB92-5CF5-48E2-B82B-5B0E1610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7C5-F91D-4112-9B7D-7496110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70F3B-6177-46A1-BC29-F15C49C1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B830-C599-4BC6-9368-9F598CF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CEAEB-8318-4B8B-BC09-1B2251C2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55A28-E212-4715-8EC2-B139364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6C25C-96ED-4F86-ABDD-D075BF22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98804-823E-4373-A760-8DAC2A41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7518B-EC67-4E45-81A0-3C70B173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F9C3-BBF3-41D2-AA01-8C6FA34E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CB9F5-2ADD-4F3D-B720-7767CC1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F4687-3B3E-494A-A7B3-D0A1A84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697F-ED90-4F5E-B5A9-073504BE18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352-1376-4040-9006-15FADA3609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9080-C1C4-4FD6-A03F-04E3EDB58E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880-2295-420C-8779-1444BABA22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169-662B-4311-8840-F64458E88B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6E8-B807-4837-8FB3-C9670DB5A7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6F3-921F-4B21-AB9F-48C66943A0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435B-5697-4C4E-95B1-F3CD1BEED5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4D7-1AF6-4FB4-9742-FEF5D9E05A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96F-08BE-4D3D-B51E-E0A7459334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0626-C6FE-4999-8A76-B2394D5027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2DAF-7BB4-4918-8BFC-51214FF584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4 Nenariekaj, začni dúf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nariekaj, začni dúf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máš v srdci bolesť,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e ver, niet prečo zúf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za teba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 Kráľ, čo v nebi vlád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ad tebou verne bd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aj pochybnosti žiad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j, on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ou kotvi v Božom Slo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útku tieň sa rozply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i sľúbil všetko nov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rdcu si ťa priv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 a dúfaj, vykroč zn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bojuj, znášaj krí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ou zbraňou jeho Sl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kušení zvíťaz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a vôkol čo chce 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láska verná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smrť všade hrôzu s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ťa stále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mätku žitia pozemsk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a raj ti sľub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ľahni sa, dúfaj v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svoj ti daru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5:00:03Z</dcterms:modified>
  <cp:revision>23</cp:revision>
  <dc:subject/>
  <dc:title>Je veľký náš Pán, on slávy je Kráľ Nech do všetkých strán  spev vrúcnych znie chvál.</dc:title>
</cp:coreProperties>
</file>